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47FC-FE7E-49AA-B67F-81F7A21A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11D-BB47-4040-A93F-3E04AD5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A9C-6613-456D-A04B-F1D626CB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43D-F5D7-4BEB-858A-FD381CDC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F9E-2A2C-42E9-AA4F-5DC950F9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63D-43DB-4EA8-81DB-6E39B4D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213-47D9-4F37-AE9C-F532FA58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E70-A1E4-41D7-A696-084B6B89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60A-421A-4B5F-B53B-5E20FCA3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A6E-8237-4183-BEA4-F869E153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6B6-9B99-4FF5-BC78-54963D1A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51D-38AE-4212-9CB7-63C02F01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E9E2-1F46-4421-9F30-A869E9272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hyperlink" Target="http://www.zimagz.com/2012/05/05/inspire-modern-living-room-design/picture-inspire-modern-living-room-design/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tar border page blue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990720"/>
            <a:ext cx="6400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cc"/>
                </a:solidFill>
                <a:latin typeface="Script MT Bold"/>
              </a:rPr>
              <a:t>La casa de mis sue</a:t>
            </a:r>
            <a:r>
              <a:rPr b="1" lang="en-US" sz="10000" spc="-1" strike="noStrike">
                <a:solidFill>
                  <a:srgbClr val="0000cc"/>
                </a:solidFill>
                <a:latin typeface="Script MT Bold"/>
                <a:ea typeface="Arial"/>
              </a:rPr>
              <a:t>ñ</a:t>
            </a:r>
            <a:r>
              <a:rPr b="1" lang="en-US" sz="10000" spc="-1" strike="noStrike">
                <a:solidFill>
                  <a:srgbClr val="0000cc"/>
                </a:solidFill>
                <a:latin typeface="Script MT Bold"/>
              </a:rPr>
              <a:t>o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47242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By: Rachel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934320" cy="379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4267080"/>
            <a:ext cx="6781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00ac"/>
                </a:solidFill>
                <a:latin typeface="Monotype Corsiva"/>
              </a:rPr>
              <a:t>Mi casa est</a:t>
            </a:r>
            <a:r>
              <a:rPr b="1" lang="en-US" sz="2800" spc="-1" strike="noStrike">
                <a:solidFill>
                  <a:srgbClr val="7f00ac"/>
                </a:solidFill>
                <a:latin typeface="Monotype Corsiva"/>
                <a:ea typeface="Arial"/>
              </a:rPr>
              <a:t>á localizada en Ruby, South Caro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00ac"/>
                </a:solidFill>
                <a:latin typeface="Monotype Corsiva"/>
                <a:ea typeface="Arial"/>
              </a:rPr>
              <a:t>Hay cuatro pisos en la ca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00ac"/>
                </a:solidFill>
                <a:latin typeface="Monotype Corsiva"/>
                <a:ea typeface="Arial"/>
              </a:rPr>
              <a:t>Es muy grande, moderno, y bel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5715000" cy="412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6520" y="525780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En la cocina tiene el nevera, el horno, el estufa, y el lavavajillas.  La cocina es grande y moder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00"/>
                </a:solidFill>
                <a:latin typeface="Arial"/>
              </a:rPr>
              <a:t>La coc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3886200" cy="2689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00600" y="609480"/>
            <a:ext cx="3629160" cy="268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62120" y="3276720"/>
            <a:ext cx="3886200" cy="2585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800600" y="3352680"/>
            <a:ext cx="3733920" cy="263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585144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9d7"/>
                </a:solidFill>
                <a:latin typeface="Arial"/>
              </a:rPr>
              <a:t>Hay cuatro </a:t>
            </a:r>
            <a:r>
              <a:rPr b="1" lang="es-ES" sz="2000" spc="-1" strike="noStrike">
                <a:solidFill>
                  <a:srgbClr val="9339d7"/>
                </a:solidFill>
                <a:latin typeface="Arial"/>
              </a:rPr>
              <a:t>dormitorios en la casa. Los dormitorios tiene camas, escritorios, ventanas, y computadoras. Los dormitorios son bello y fabulo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 dormito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3828960" cy="2098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3224160" cy="2157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54100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ay cuatro Ba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ñ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s en la casa. Los ba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ñ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s tiene ba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ñ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eras, lavabos, duchas, y mucho M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.  Los ba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ñ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s son incredible y lujo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amazing bathroom shower"/>
          <p:cNvPicPr/>
          <p:nvPr/>
        </p:nvPicPr>
        <p:blipFill>
          <a:blip r:embed="rId4"/>
          <a:stretch/>
        </p:blipFill>
        <p:spPr>
          <a:xfrm>
            <a:off x="5410080" y="1219320"/>
            <a:ext cx="2733840" cy="1904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523880" y="1219320"/>
            <a:ext cx="3238560" cy="195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33"/>
                </a:solidFill>
                <a:latin typeface="Arial"/>
              </a:rPr>
              <a:t>Los ba</a:t>
            </a:r>
            <a:r>
              <a:rPr b="1" lang="en-US" sz="8000" spc="-1" strike="noStrike">
                <a:solidFill>
                  <a:srgbClr val="990033"/>
                </a:solidFill>
                <a:latin typeface="Arial"/>
                <a:ea typeface="Arial"/>
              </a:rPr>
              <a:t>ñ</a:t>
            </a:r>
            <a:r>
              <a:rPr b="1" lang="en-US" sz="8000" spc="-1" strike="noStrike">
                <a:solidFill>
                  <a:srgbClr val="990033"/>
                </a:solidFill>
                <a:latin typeface="Arial"/>
              </a:rPr>
              <a:t>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Inspire modern Living Room Desig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990720"/>
            <a:ext cx="3886200" cy="307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0" y="-1522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Las sala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114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te sala es pequ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, pero muy c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o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1148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te sala es muy grande y mode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50292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ca1c"/>
                </a:solidFill>
                <a:latin typeface="Arial"/>
              </a:rPr>
              <a:t>Las salas tiene sof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</a:rPr>
              <a:t>s, televisi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  <a:ea typeface="Arial"/>
              </a:rPr>
              <a:t>ó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</a:rPr>
              <a:t>nes, mesas, un hogar, y mucho m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31ca1c"/>
                </a:solidFill>
                <a:latin typeface="Arial"/>
              </a:rPr>
              <a:t>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76520" y="0"/>
            <a:ext cx="57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Arial"/>
              </a:rPr>
              <a:t>El comed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5715000" cy="3543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81080" y="4876920"/>
            <a:ext cx="518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dde1"/>
                </a:solidFill>
                <a:latin typeface="Arial"/>
              </a:rPr>
              <a:t>El comedor tiene un mesa, sillas, y luces bonita. El comedor es grande y muy elega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00200" y="763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El gar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4419720" cy="3535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33720" y="55627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ac"/>
                </a:solidFill>
                <a:latin typeface="Arial"/>
              </a:rPr>
              <a:t>El garaje es muy grande y antiguo</a:t>
            </a:r>
            <a:r>
              <a:rPr b="0" lang="en-US" sz="1800" spc="-1" strike="noStrike">
                <a:solidFill>
                  <a:srgbClr val="7f00a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47:27Z</dcterms:created>
  <dc:creator>hickeyrac</dc:creator>
  <dc:description/>
  <dc:language>en-US</dc:language>
  <cp:lastModifiedBy>hickeyrac</cp:lastModifiedBy>
  <dcterms:modified xsi:type="dcterms:W3CDTF">2012-05-23T18:44:49Z</dcterms:modified>
  <cp:revision>9</cp:revision>
  <dc:subject/>
  <dc:title>Slide 1</dc:title>
</cp:coreProperties>
</file>